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4900" spc="-1" strike="noStrike">
                <a:solidFill>
                  <a:srgbClr val="1f497d"/>
                </a:solidFill>
                <a:latin typeface="Tw Cen MT"/>
              </a:rPr>
              <a:t>Click to move the slide</a:t>
            </a:r>
            <a:endParaRPr b="0" lang="en-US" sz="49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 type="dt" idx="28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 type="ftr" idx="29"/>
          </p:nvPr>
        </p:nvSpPr>
        <p:spPr>
          <a:xfrm>
            <a:off x="0" y="9555120"/>
            <a:ext cx="337032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 type="sldNum" idx="30"/>
          </p:nvPr>
        </p:nvSpPr>
        <p:spPr>
          <a:xfrm>
            <a:off x="4398840" y="9555120"/>
            <a:ext cx="337032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9281C7-F2F4-436B-A4B3-2ABF6CFE74C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7"/>
          <p:cNvSpPr/>
          <p:nvPr/>
        </p:nvSpPr>
        <p:spPr>
          <a:xfrm>
            <a:off x="4398840" y="9555120"/>
            <a:ext cx="33703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E2FA3D-3D9E-4C29-9FD3-71AE1FA2772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Text Box 1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4398840" y="9555120"/>
            <a:ext cx="33703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BA758A-B6F4-4A9F-B898-BB845FEA814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7760" cy="377028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64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4398840" y="9555120"/>
            <a:ext cx="33703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C9AFB9-9C24-42B9-AEE6-B2B53FC4721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7760" cy="377028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64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4398840" y="9555120"/>
            <a:ext cx="33703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EFC40B-82CB-490E-BB64-F986523632C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7760" cy="377028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64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4398840" y="9555120"/>
            <a:ext cx="33703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A704B8-3063-4923-B495-DCCAB1BDB50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7760" cy="377028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64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4398840" y="9555120"/>
            <a:ext cx="33703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4B41A1-7C8D-489B-BF0E-34032EB2CF7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7760" cy="377028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64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4398840" y="9555120"/>
            <a:ext cx="33703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359E9B-644F-4B5A-8538-C6144C0DDB0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7760" cy="377028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64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1404E-E057-4009-AC2A-71C508168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71400" y="252360"/>
            <a:ext cx="898848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74640" y="1763640"/>
            <a:ext cx="8989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74640" y="4370040"/>
            <a:ext cx="8989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A02F6-1875-47CA-94EA-5BACF839A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71400" y="252360"/>
            <a:ext cx="898848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74640" y="1763640"/>
            <a:ext cx="43869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5281200" y="1763640"/>
            <a:ext cx="43869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C746D9-D604-40F2-94FE-68996B51B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71400" y="252360"/>
            <a:ext cx="898848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C5480E-E6CB-478A-A7B6-06AB691E3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671400" y="252360"/>
            <a:ext cx="8988480" cy="506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A2837C-4582-486C-9894-5941E3292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71400" y="252360"/>
            <a:ext cx="898848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74640" y="1763640"/>
            <a:ext cx="43869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5281200" y="1763640"/>
            <a:ext cx="43869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74640" y="4370040"/>
            <a:ext cx="43869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445FE8-466D-4241-AC25-B83F93244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71400" y="252360"/>
            <a:ext cx="898848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74640" y="1763640"/>
            <a:ext cx="43869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5281200" y="1763640"/>
            <a:ext cx="43869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281200" y="4370040"/>
            <a:ext cx="43869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396727-7983-481C-AE88-6D865C289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71400" y="252360"/>
            <a:ext cx="898848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74640" y="1763640"/>
            <a:ext cx="43869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281200" y="1763640"/>
            <a:ext cx="43869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74640" y="4370040"/>
            <a:ext cx="8989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2E1CD2-F1D3-46AE-9AEE-751E94245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71400" y="252360"/>
            <a:ext cx="898848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74640" y="1763640"/>
            <a:ext cx="8989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674640" y="4370040"/>
            <a:ext cx="8989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A72386-37AA-4112-82C9-28B75257D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71400" y="252360"/>
            <a:ext cx="898848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74640" y="1763640"/>
            <a:ext cx="43869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5281200" y="1763640"/>
            <a:ext cx="43869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74640" y="4370040"/>
            <a:ext cx="43869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5281200" y="4370040"/>
            <a:ext cx="43869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283C3F-F4D2-4990-8DF4-C899B49EB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71400" y="252360"/>
            <a:ext cx="898848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74640" y="1763640"/>
            <a:ext cx="28944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714120" y="1763640"/>
            <a:ext cx="28944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753600" y="1763640"/>
            <a:ext cx="28944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674640" y="4370040"/>
            <a:ext cx="28944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714120" y="4370040"/>
            <a:ext cx="28944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753600" y="4370040"/>
            <a:ext cx="28944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F43BEE-2A24-4A0E-8298-82F7D22B5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71400" y="252360"/>
            <a:ext cx="898848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74640" y="1763640"/>
            <a:ext cx="43869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81200" y="1763640"/>
            <a:ext cx="43869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74640" y="4370040"/>
            <a:ext cx="43869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281200" y="4370040"/>
            <a:ext cx="43869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84F9A-952F-4EC1-AB12-57A01713E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71400" y="252360"/>
            <a:ext cx="898848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74640" y="1763640"/>
            <a:ext cx="28944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4120" y="1763640"/>
            <a:ext cx="28944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53600" y="1763640"/>
            <a:ext cx="28944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74640" y="4370040"/>
            <a:ext cx="28944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4120" y="4370040"/>
            <a:ext cx="28944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53600" y="4370040"/>
            <a:ext cx="28944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4D59A-7D50-4F46-A01C-CBF577812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2019B-70B2-40EC-AA1D-1CB3DCE42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71400" y="252360"/>
            <a:ext cx="898848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74640" y="1763640"/>
            <a:ext cx="8989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37C02-B151-4DA7-9F65-6BB682361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71400" y="252360"/>
            <a:ext cx="898848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74640" y="1763640"/>
            <a:ext cx="8989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AFECF-B4EE-49CF-9832-A34D895FC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71400" y="252360"/>
            <a:ext cx="898848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74640" y="1763640"/>
            <a:ext cx="43869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281200" y="1763640"/>
            <a:ext cx="43869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C549B-AA9D-4C79-BE2A-F7854BBB0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71400" y="252360"/>
            <a:ext cx="898848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F7875-B60C-4192-AD70-F8DE4BA7F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71400" y="252360"/>
            <a:ext cx="8988480" cy="506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26DE7-3BBD-4C93-B002-57C90239F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71400" y="252360"/>
            <a:ext cx="898848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74640" y="1763640"/>
            <a:ext cx="43869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281200" y="1763640"/>
            <a:ext cx="43869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74640" y="4370040"/>
            <a:ext cx="43869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0F118-4DF0-4154-AE7C-257A5EDD3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71400" y="252360"/>
            <a:ext cx="898848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74640" y="1763640"/>
            <a:ext cx="8989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B3AF2-ECA2-4B70-8408-87BAF6232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71400" y="252360"/>
            <a:ext cx="898848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74640" y="1763640"/>
            <a:ext cx="43869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281200" y="1763640"/>
            <a:ext cx="43869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281200" y="4370040"/>
            <a:ext cx="43869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1FC45-5381-4F6B-98DA-141EE5148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71400" y="252360"/>
            <a:ext cx="898848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74640" y="1763640"/>
            <a:ext cx="43869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281200" y="1763640"/>
            <a:ext cx="43869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74640" y="4370040"/>
            <a:ext cx="8989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7EBBA-963C-4454-A9A6-694776A40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71400" y="252360"/>
            <a:ext cx="898848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74640" y="1763640"/>
            <a:ext cx="8989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74640" y="4370040"/>
            <a:ext cx="8989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7E351-18C7-4C52-AA6A-076D6D4C4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71400" y="252360"/>
            <a:ext cx="898848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74640" y="1763640"/>
            <a:ext cx="43869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281200" y="1763640"/>
            <a:ext cx="43869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74640" y="4370040"/>
            <a:ext cx="43869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281200" y="4370040"/>
            <a:ext cx="43869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D9066-0E2C-4C29-9F6D-55A9253FE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71400" y="252360"/>
            <a:ext cx="898848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74640" y="1763640"/>
            <a:ext cx="28944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714120" y="1763640"/>
            <a:ext cx="28944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753600" y="1763640"/>
            <a:ext cx="28944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74640" y="4370040"/>
            <a:ext cx="28944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714120" y="4370040"/>
            <a:ext cx="28944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753600" y="4370040"/>
            <a:ext cx="28944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B4DB5-C087-42FD-9CA7-2CFBC8CFA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68B43D2-0E5D-41A7-9254-31E755F80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71400" y="252360"/>
            <a:ext cx="898848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74640" y="1763640"/>
            <a:ext cx="8989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7FD110-18F9-40F8-A31D-0EBB46B5C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71400" y="252360"/>
            <a:ext cx="898848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74640" y="1763640"/>
            <a:ext cx="8989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9629830-38C8-4AB4-B1FA-F596A5902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71400" y="252360"/>
            <a:ext cx="898848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74640" y="1763640"/>
            <a:ext cx="43869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281200" y="1763640"/>
            <a:ext cx="43869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95F9E3-4EE0-459D-97FC-C7AE26943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71400" y="252360"/>
            <a:ext cx="898848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8E67C5D-047B-4EB1-A36B-FB5A1336A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71400" y="252360"/>
            <a:ext cx="898848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74640" y="1763640"/>
            <a:ext cx="8989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BEAC5-F735-4E64-9FF2-0CEA255DD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71400" y="252360"/>
            <a:ext cx="8988480" cy="506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34F78D5-3826-4BCA-B09C-06E107442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71400" y="252360"/>
            <a:ext cx="898848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74640" y="1763640"/>
            <a:ext cx="43869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281200" y="1763640"/>
            <a:ext cx="43869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74640" y="4370040"/>
            <a:ext cx="43869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F363C65-BCA0-47D0-9F3A-802C94861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71400" y="252360"/>
            <a:ext cx="898848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74640" y="1763640"/>
            <a:ext cx="43869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281200" y="1763640"/>
            <a:ext cx="43869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281200" y="4370040"/>
            <a:ext cx="43869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1C904BF-E160-4428-B40A-FDFB6CBF3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71400" y="252360"/>
            <a:ext cx="898848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74640" y="1763640"/>
            <a:ext cx="43869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281200" y="1763640"/>
            <a:ext cx="43869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74640" y="4370040"/>
            <a:ext cx="8989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D04C9BF-D44D-4703-8323-7AC5C81BF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71400" y="252360"/>
            <a:ext cx="898848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74640" y="1763640"/>
            <a:ext cx="8989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74640" y="4370040"/>
            <a:ext cx="8989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E0F3C4D-2F79-4C1F-A81D-0B73FD955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71400" y="252360"/>
            <a:ext cx="898848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74640" y="1763640"/>
            <a:ext cx="43869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81200" y="1763640"/>
            <a:ext cx="43869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74640" y="4370040"/>
            <a:ext cx="43869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5281200" y="4370040"/>
            <a:ext cx="43869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46D73A4-4FA7-43F9-8112-DA5C14849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71400" y="252360"/>
            <a:ext cx="898848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74640" y="1763640"/>
            <a:ext cx="28944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714120" y="1763640"/>
            <a:ext cx="28944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753600" y="1763640"/>
            <a:ext cx="28944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74640" y="4370040"/>
            <a:ext cx="28944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714120" y="4370040"/>
            <a:ext cx="28944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753600" y="4370040"/>
            <a:ext cx="28944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10D57AC-E31A-4CDF-9981-44D20A16B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44B3CD9-1B7F-47A1-815A-A9689B87C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71400" y="252360"/>
            <a:ext cx="898848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74640" y="1763640"/>
            <a:ext cx="8989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5828132-8B6D-4753-BF56-82148F303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71400" y="252360"/>
            <a:ext cx="898848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74640" y="1763640"/>
            <a:ext cx="8989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1151BA6-32F5-475B-B963-38726669D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71400" y="252360"/>
            <a:ext cx="898848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74640" y="1763640"/>
            <a:ext cx="43869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281200" y="1763640"/>
            <a:ext cx="43869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6984B-62F9-46A8-81F4-F298C248E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71400" y="252360"/>
            <a:ext cx="898848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74640" y="1763640"/>
            <a:ext cx="43869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281200" y="1763640"/>
            <a:ext cx="43869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70C0B79-6236-4204-8F6B-C8C35524D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71400" y="252360"/>
            <a:ext cx="898848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B2778D0-9DE8-4D7B-8380-4A168197C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71400" y="252360"/>
            <a:ext cx="8988480" cy="506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AEF2B9B-D08F-4E4A-B99D-2FAC9C7E9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71400" y="252360"/>
            <a:ext cx="898848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74640" y="1763640"/>
            <a:ext cx="43869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281200" y="1763640"/>
            <a:ext cx="43869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74640" y="4370040"/>
            <a:ext cx="43869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E7E8E05-CBAF-4E76-8DAC-DCE3D116B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71400" y="252360"/>
            <a:ext cx="898848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74640" y="1763640"/>
            <a:ext cx="43869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281200" y="1763640"/>
            <a:ext cx="43869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5281200" y="4370040"/>
            <a:ext cx="43869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7056167-B218-4B8C-AA83-B5E770EC0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71400" y="252360"/>
            <a:ext cx="898848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74640" y="1763640"/>
            <a:ext cx="43869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281200" y="1763640"/>
            <a:ext cx="43869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74640" y="4370040"/>
            <a:ext cx="8989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AF6197F-60DC-4A13-9254-C35206832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71400" y="252360"/>
            <a:ext cx="898848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74640" y="1763640"/>
            <a:ext cx="8989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74640" y="4370040"/>
            <a:ext cx="8989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2776577-4F20-4509-886F-C5DC4B506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71400" y="252360"/>
            <a:ext cx="898848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74640" y="1763640"/>
            <a:ext cx="43869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5281200" y="1763640"/>
            <a:ext cx="43869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74640" y="4370040"/>
            <a:ext cx="43869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5281200" y="4370040"/>
            <a:ext cx="43869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492958E-14B6-467A-B13D-347F6D1B1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71400" y="252360"/>
            <a:ext cx="898848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74640" y="1763640"/>
            <a:ext cx="28944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714120" y="1763640"/>
            <a:ext cx="28944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753600" y="1763640"/>
            <a:ext cx="28944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74640" y="4370040"/>
            <a:ext cx="28944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714120" y="4370040"/>
            <a:ext cx="28944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753600" y="4370040"/>
            <a:ext cx="28944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687B26D-7C36-4D7F-A2BF-E1F6CC03B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DA8DAD5-87FD-42A1-B801-C0C7E8005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71400" y="252360"/>
            <a:ext cx="898848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21DEC-1823-4739-B806-CCC06FD83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71400" y="252360"/>
            <a:ext cx="898848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74640" y="1763640"/>
            <a:ext cx="8989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8BE258D-2459-4572-B3BA-5B04D1C48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71400" y="252360"/>
            <a:ext cx="898848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74640" y="1763640"/>
            <a:ext cx="8989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D6E9EDA-A072-4BDC-89CD-8CEF12831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71400" y="252360"/>
            <a:ext cx="898848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74640" y="1763640"/>
            <a:ext cx="43869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5281200" y="1763640"/>
            <a:ext cx="43869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EB3CF12-5ED1-4E4E-BCF2-23F3BE97F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71400" y="252360"/>
            <a:ext cx="898848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04EC4C0-5194-4A45-B997-3FD420D41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71400" y="252360"/>
            <a:ext cx="8988480" cy="506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7A7CAC8-7725-475A-B859-DF882296F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71400" y="252360"/>
            <a:ext cx="898848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74640" y="1763640"/>
            <a:ext cx="43869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281200" y="1763640"/>
            <a:ext cx="43869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74640" y="4370040"/>
            <a:ext cx="43869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6B98ABE-D8CB-41A2-9396-1B50C8D38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71400" y="252360"/>
            <a:ext cx="898848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74640" y="1763640"/>
            <a:ext cx="43869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281200" y="1763640"/>
            <a:ext cx="43869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281200" y="4370040"/>
            <a:ext cx="43869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0777A6E-2441-4F41-8F57-EC381B50F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71400" y="252360"/>
            <a:ext cx="898848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4640" y="1763640"/>
            <a:ext cx="43869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5281200" y="1763640"/>
            <a:ext cx="43869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74640" y="4370040"/>
            <a:ext cx="8989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A650078-83AE-4300-9EE1-CCBAB7DA1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71400" y="252360"/>
            <a:ext cx="898848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74640" y="1763640"/>
            <a:ext cx="8989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74640" y="4370040"/>
            <a:ext cx="8989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11F7F5A-06F5-42EF-9507-47A414913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71400" y="252360"/>
            <a:ext cx="898848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74640" y="1763640"/>
            <a:ext cx="43869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81200" y="1763640"/>
            <a:ext cx="43869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74640" y="4370040"/>
            <a:ext cx="43869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5281200" y="4370040"/>
            <a:ext cx="43869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32A4C51-AE62-492B-A033-683D60017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71400" y="252360"/>
            <a:ext cx="8988480" cy="506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CB500-828B-46F5-9227-63E080ED7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71400" y="252360"/>
            <a:ext cx="898848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74640" y="1763640"/>
            <a:ext cx="28944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714120" y="1763640"/>
            <a:ext cx="28944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753600" y="1763640"/>
            <a:ext cx="28944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74640" y="4370040"/>
            <a:ext cx="28944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714120" y="4370040"/>
            <a:ext cx="28944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753600" y="4370040"/>
            <a:ext cx="28944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2309EFA-D0E1-4A7E-BCFA-77989AE13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7D91EC-57EF-4B99-B623-5657C047B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71400" y="252360"/>
            <a:ext cx="898848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74640" y="1763640"/>
            <a:ext cx="8989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0C9F2B-5A2C-48AA-A7A1-3D19215EA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71400" y="252360"/>
            <a:ext cx="898848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74640" y="1763640"/>
            <a:ext cx="8989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511AA4-5E28-48EB-8894-48A72FB93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71400" y="252360"/>
            <a:ext cx="898848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74640" y="1763640"/>
            <a:ext cx="43869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5281200" y="1763640"/>
            <a:ext cx="43869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DE9511-86FC-47A6-B0A3-F82D01643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71400" y="252360"/>
            <a:ext cx="898848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1D367B-9EEF-477F-B581-5B1CDB37A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71400" y="252360"/>
            <a:ext cx="8988480" cy="506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AD96A9-6246-418C-8827-71877AADC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71400" y="252360"/>
            <a:ext cx="898848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74640" y="1763640"/>
            <a:ext cx="43869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281200" y="1763640"/>
            <a:ext cx="43869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74640" y="4370040"/>
            <a:ext cx="43869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0E0816-A2FB-432E-9A28-C0CBFA1BD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71400" y="252360"/>
            <a:ext cx="898848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74640" y="1763640"/>
            <a:ext cx="43869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5281200" y="1763640"/>
            <a:ext cx="43869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5281200" y="4370040"/>
            <a:ext cx="43869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58D24A-4C8E-420B-806F-ADA37BF81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71400" y="252360"/>
            <a:ext cx="898848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74640" y="1763640"/>
            <a:ext cx="43869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5281200" y="1763640"/>
            <a:ext cx="43869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74640" y="4370040"/>
            <a:ext cx="8989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42D6BF-9961-43DA-A98E-3A9942518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71400" y="252360"/>
            <a:ext cx="898848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74640" y="1763640"/>
            <a:ext cx="43869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281200" y="1763640"/>
            <a:ext cx="43869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74640" y="4370040"/>
            <a:ext cx="43869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B442C-D318-4E9F-BEBA-5A87FA4B5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71400" y="252360"/>
            <a:ext cx="898848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74640" y="1763640"/>
            <a:ext cx="8989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74640" y="4370040"/>
            <a:ext cx="8989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028D54-07CA-40E0-88DF-CE9F4772E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71400" y="252360"/>
            <a:ext cx="898848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74640" y="1763640"/>
            <a:ext cx="43869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81200" y="1763640"/>
            <a:ext cx="43869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74640" y="4370040"/>
            <a:ext cx="43869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5281200" y="4370040"/>
            <a:ext cx="43869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B42E27-E90B-4FBA-9C85-40036FD7D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71400" y="252360"/>
            <a:ext cx="898848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74640" y="1763640"/>
            <a:ext cx="28944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714120" y="1763640"/>
            <a:ext cx="28944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753600" y="1763640"/>
            <a:ext cx="28944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74640" y="4370040"/>
            <a:ext cx="28944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714120" y="4370040"/>
            <a:ext cx="28944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753600" y="4370040"/>
            <a:ext cx="28944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3C86D5-ACE9-4FF7-BC84-8955952A9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1EBC894-BB5B-4A0D-88B8-0DCB1A7B0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71400" y="252360"/>
            <a:ext cx="898848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74640" y="1763640"/>
            <a:ext cx="8989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FD13D74-0FF3-4099-919C-55F0A4F26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71400" y="252360"/>
            <a:ext cx="898848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74640" y="1763640"/>
            <a:ext cx="8989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C2199F8-EC97-4BBB-B1F2-85BB617A7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71400" y="252360"/>
            <a:ext cx="898848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74640" y="1763640"/>
            <a:ext cx="43869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5281200" y="1763640"/>
            <a:ext cx="43869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294D159-5160-49BC-A84C-736B8A9C4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71400" y="252360"/>
            <a:ext cx="898848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3F4A441-3711-48BD-990C-94EA0E6CF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71400" y="252360"/>
            <a:ext cx="8988480" cy="506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07607FC-5089-4B0A-96E5-B678D6BDE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71400" y="252360"/>
            <a:ext cx="898848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74640" y="1763640"/>
            <a:ext cx="43869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5281200" y="1763640"/>
            <a:ext cx="43869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74640" y="4370040"/>
            <a:ext cx="43869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C651261-F4BF-4F73-BF83-3D232A3B3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71400" y="252360"/>
            <a:ext cx="898848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74640" y="1763640"/>
            <a:ext cx="43869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81200" y="1763640"/>
            <a:ext cx="43869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281200" y="4370040"/>
            <a:ext cx="43869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ADB0C-BC4F-48FE-8E1A-FFCABA027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71400" y="252360"/>
            <a:ext cx="898848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74640" y="1763640"/>
            <a:ext cx="43869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5281200" y="1763640"/>
            <a:ext cx="43869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281200" y="4370040"/>
            <a:ext cx="43869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435A1A0-E1B5-4E00-A164-D9603C6BD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71400" y="252360"/>
            <a:ext cx="898848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74640" y="1763640"/>
            <a:ext cx="43869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281200" y="1763640"/>
            <a:ext cx="43869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74640" y="4370040"/>
            <a:ext cx="8989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1E0A894-5ABF-42BE-ACA4-6F16D6005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71400" y="252360"/>
            <a:ext cx="898848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74640" y="1763640"/>
            <a:ext cx="8989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74640" y="4370040"/>
            <a:ext cx="8989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22003E9-8B44-4B6A-AA64-C4E42ECF3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71400" y="252360"/>
            <a:ext cx="898848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74640" y="1763640"/>
            <a:ext cx="43869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5281200" y="1763640"/>
            <a:ext cx="43869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74640" y="4370040"/>
            <a:ext cx="43869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5281200" y="4370040"/>
            <a:ext cx="43869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E3819CB-B37A-46BC-8CBB-68EBFD2DA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71400" y="252360"/>
            <a:ext cx="898848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74640" y="1763640"/>
            <a:ext cx="28944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714120" y="1763640"/>
            <a:ext cx="28944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753600" y="1763640"/>
            <a:ext cx="28944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74640" y="4370040"/>
            <a:ext cx="28944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714120" y="4370040"/>
            <a:ext cx="28944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753600" y="4370040"/>
            <a:ext cx="28944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CA0D495-1453-4425-9645-A3A13E1C0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04A7DA-5D80-41CD-B31E-83A9EE069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71400" y="252360"/>
            <a:ext cx="898848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74640" y="1763640"/>
            <a:ext cx="8989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1277F5-8670-4B2C-B490-99E764ED3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71400" y="252360"/>
            <a:ext cx="898848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74640" y="1763640"/>
            <a:ext cx="8989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F17D9F-331B-4516-A80A-BE6302858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71400" y="252360"/>
            <a:ext cx="898848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74640" y="1763640"/>
            <a:ext cx="43869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5281200" y="1763640"/>
            <a:ext cx="43869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8F75A5-F1AE-4BA0-964F-92A3A6F76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71400" y="252360"/>
            <a:ext cx="898848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F6FBF6-5BAC-422B-B074-3521B7376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71400" y="252360"/>
            <a:ext cx="898848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74640" y="1763640"/>
            <a:ext cx="43869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81200" y="1763640"/>
            <a:ext cx="43869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74640" y="4370040"/>
            <a:ext cx="8989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53A2F-C327-4A4E-BA25-E7FF0E778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71400" y="252360"/>
            <a:ext cx="8988480" cy="506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30F4D2-922C-497A-B43C-AC17683CB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71400" y="252360"/>
            <a:ext cx="898848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74640" y="1763640"/>
            <a:ext cx="43869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5281200" y="1763640"/>
            <a:ext cx="43869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74640" y="4370040"/>
            <a:ext cx="43869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C8784D-59D4-4112-90AE-502EFFF59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71400" y="252360"/>
            <a:ext cx="898848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74640" y="1763640"/>
            <a:ext cx="43869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5281200" y="1763640"/>
            <a:ext cx="43869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281200" y="4370040"/>
            <a:ext cx="43869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333BF9-5453-434D-A295-3EC240521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71400" y="252360"/>
            <a:ext cx="898848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74640" y="1763640"/>
            <a:ext cx="43869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281200" y="1763640"/>
            <a:ext cx="43869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74640" y="4370040"/>
            <a:ext cx="8989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F48892-C121-4B20-8C65-A788E6D87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71400" y="252360"/>
            <a:ext cx="898848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74640" y="1763640"/>
            <a:ext cx="8989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74640" y="4370040"/>
            <a:ext cx="8989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6F4A90-D7FA-4D26-A1F6-DF6C0E974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71400" y="252360"/>
            <a:ext cx="898848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74640" y="1763640"/>
            <a:ext cx="43869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5281200" y="1763640"/>
            <a:ext cx="43869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74640" y="4370040"/>
            <a:ext cx="43869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5281200" y="4370040"/>
            <a:ext cx="43869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22762A-91A8-4D47-8EBC-9213ABEAE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71400" y="252360"/>
            <a:ext cx="898848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74640" y="1763640"/>
            <a:ext cx="28944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714120" y="1763640"/>
            <a:ext cx="28944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753600" y="1763640"/>
            <a:ext cx="28944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74640" y="4370040"/>
            <a:ext cx="28944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714120" y="4370040"/>
            <a:ext cx="28944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753600" y="4370040"/>
            <a:ext cx="28944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B447F8-1570-41F1-93FF-F5CA1D832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D42F26-EEB6-4676-998E-3D5413BC1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71400" y="252360"/>
            <a:ext cx="898848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674640" y="1763640"/>
            <a:ext cx="8989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85FB32-5739-4633-A1C2-8265BD60D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71400" y="252360"/>
            <a:ext cx="898848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74640" y="1763640"/>
            <a:ext cx="8989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AC39A6-E013-428A-8D90-DD065FAC5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71400" y="252360"/>
            <a:ext cx="898848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9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74640" y="1763640"/>
            <a:ext cx="8989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52440" indent="-352440">
              <a:spcBef>
                <a:spcPts val="774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1" marL="704880" indent="-301680">
              <a:spcBef>
                <a:spcPts val="774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2" marL="1006560" indent="-250920">
              <a:spcBef>
                <a:spcPts val="774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3" marL="1511280" indent="-250920">
              <a:spcBef>
                <a:spcPts val="774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4" marL="2014560" indent="-250920">
              <a:spcBef>
                <a:spcPts val="774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5" marL="2014560" indent="-250920">
              <a:spcBef>
                <a:spcPts val="774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6" marL="2014560" indent="-250920">
              <a:spcBef>
                <a:spcPts val="774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719400" y="6887880"/>
            <a:ext cx="294012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71040" y="6887880"/>
            <a:ext cx="597708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360440"/>
            <a:ext cx="10080720" cy="352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411200"/>
            <a:ext cx="587520" cy="25236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650880" y="1411200"/>
            <a:ext cx="9429840" cy="25236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401480"/>
            <a:ext cx="587520" cy="269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GB" sz="15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1C7F2B-05F3-453C-8EBB-ED46E0A9302A}" type="slidenum">
              <a:rPr b="1" lang="en-GB" sz="15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6581880"/>
            <a:ext cx="10080720" cy="977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-9360" y="6672240"/>
            <a:ext cx="2479680" cy="78732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2600280" y="6662880"/>
            <a:ext cx="7480440" cy="7855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71400" y="252360"/>
            <a:ext cx="898848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eeece1"/>
                </a:solidFill>
                <a:latin typeface="Tw Cen MT"/>
              </a:rPr>
              <a:t>Click to edit the title text format</a:t>
            </a:r>
            <a:endParaRPr b="0" lang="en-US" sz="4900" spc="-1" strike="noStrike">
              <a:solidFill>
                <a:srgbClr val="eeece1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74640" y="1763640"/>
            <a:ext cx="8989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52440" indent="-352440">
              <a:spcBef>
                <a:spcPts val="774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  <a:p>
            <a:pPr lvl="1" marL="704880" indent="-301680">
              <a:spcBef>
                <a:spcPts val="774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  <a:p>
            <a:pPr lvl="2" marL="1006560" indent="-250920">
              <a:spcBef>
                <a:spcPts val="774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  <a:p>
            <a:pPr lvl="3" marL="1511280" indent="-250920">
              <a:spcBef>
                <a:spcPts val="774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  <a:p>
            <a:pPr lvl="4" marL="2014560" indent="-250920">
              <a:spcBef>
                <a:spcPts val="774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  <a:p>
            <a:pPr lvl="5" marL="2014560" indent="-250920">
              <a:spcBef>
                <a:spcPts val="774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  <a:p>
            <a:pPr lvl="6" marL="2014560" indent="-250920">
              <a:spcBef>
                <a:spcPts val="774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83880" y="6689520"/>
            <a:ext cx="2268360" cy="755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298600" y="260280"/>
            <a:ext cx="6469200" cy="403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819640" y="252360"/>
            <a:ext cx="924120" cy="419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GB" sz="1500" spc="-1" strike="noStrike">
                <a:solidFill>
                  <a:srgbClr val="eeece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586E97C-79B3-4612-A90B-F526565A2A83}" type="slidenum">
              <a:rPr b="1" lang="en-GB" sz="1500" spc="-1" strike="noStrike">
                <a:solidFill>
                  <a:srgbClr val="eeece1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9"/>
          <p:cNvSpPr/>
          <p:nvPr/>
        </p:nvSpPr>
        <p:spPr>
          <a:xfrm>
            <a:off x="0" y="1679400"/>
            <a:ext cx="10080720" cy="126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0" y="1763640"/>
            <a:ext cx="1428840" cy="109224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1512720" y="1763640"/>
            <a:ext cx="8568000" cy="10922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71400" y="252360"/>
            <a:ext cx="898848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9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74640" y="1763640"/>
            <a:ext cx="8989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52440" indent="-352440">
              <a:spcBef>
                <a:spcPts val="774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1" marL="704880" indent="-301680">
              <a:spcBef>
                <a:spcPts val="774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2" marL="1006560" indent="-250920">
              <a:spcBef>
                <a:spcPts val="774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3" marL="1511280" indent="-250920">
              <a:spcBef>
                <a:spcPts val="774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4" marL="2014560" indent="-250920">
              <a:spcBef>
                <a:spcPts val="774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5" marL="2014560" indent="-250920">
              <a:spcBef>
                <a:spcPts val="774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6" marL="2014560" indent="-250920">
              <a:spcBef>
                <a:spcPts val="774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719400" y="6887880"/>
            <a:ext cx="294012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-360" y="1931760"/>
            <a:ext cx="1428840" cy="772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GB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D50E7E8-AA7F-4E70-B853-BA5521422A23}" type="slidenum">
              <a:rPr b="1" lang="en-GB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71040" y="6887880"/>
            <a:ext cx="597708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1360440"/>
            <a:ext cx="10080720" cy="352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1411200"/>
            <a:ext cx="587520" cy="25236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650880" y="1411200"/>
            <a:ext cx="9429840" cy="25236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71400" y="252360"/>
            <a:ext cx="898848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9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74640" y="1763640"/>
            <a:ext cx="8989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52440" indent="-352440">
              <a:spcBef>
                <a:spcPts val="774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1" marL="704880" indent="-301680">
              <a:spcBef>
                <a:spcPts val="774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2" marL="1006560" indent="-250920">
              <a:spcBef>
                <a:spcPts val="774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3" marL="1511280" indent="-250920">
              <a:spcBef>
                <a:spcPts val="774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4" marL="2014560" indent="-250920">
              <a:spcBef>
                <a:spcPts val="774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5" marL="2014560" indent="-250920">
              <a:spcBef>
                <a:spcPts val="774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6" marL="2014560" indent="-250920">
              <a:spcBef>
                <a:spcPts val="774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719400" y="6887880"/>
            <a:ext cx="294012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401480"/>
            <a:ext cx="587520" cy="269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GB" sz="15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FB98DE-F92B-41F5-ABD0-EAAFD0996AC3}" type="slidenum">
              <a:rPr b="1" lang="en-GB" sz="15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71040" y="6887880"/>
            <a:ext cx="597708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360440"/>
            <a:ext cx="10080720" cy="352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411200"/>
            <a:ext cx="587520" cy="25236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650880" y="1411200"/>
            <a:ext cx="9429840" cy="25236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71400" y="252360"/>
            <a:ext cx="898848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9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74640" y="1763640"/>
            <a:ext cx="8989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52440" indent="-352440">
              <a:spcBef>
                <a:spcPts val="774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1" marL="704880" indent="-301680">
              <a:spcBef>
                <a:spcPts val="774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2" marL="1006560" indent="-250920">
              <a:spcBef>
                <a:spcPts val="774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3" marL="1511280" indent="-250920">
              <a:spcBef>
                <a:spcPts val="774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4" marL="2014560" indent="-250920">
              <a:spcBef>
                <a:spcPts val="774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5" marL="2014560" indent="-250920">
              <a:spcBef>
                <a:spcPts val="774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6" marL="2014560" indent="-250920">
              <a:spcBef>
                <a:spcPts val="774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719400" y="6887880"/>
            <a:ext cx="294012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401480"/>
            <a:ext cx="587520" cy="269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GB" sz="15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834E2CC-476A-498B-8F14-CADB55EDD24F}" type="slidenum">
              <a:rPr b="1" lang="en-GB" sz="15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71040" y="6887880"/>
            <a:ext cx="597708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71400" y="252360"/>
            <a:ext cx="898848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9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74640" y="1763640"/>
            <a:ext cx="8989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52440" indent="-352440">
              <a:spcBef>
                <a:spcPts val="774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1" marL="704880" indent="-301680">
              <a:spcBef>
                <a:spcPts val="774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2" marL="1006560" indent="-250920">
              <a:spcBef>
                <a:spcPts val="774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3" marL="1511280" indent="-250920">
              <a:spcBef>
                <a:spcPts val="774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4" marL="2014560" indent="-250920">
              <a:spcBef>
                <a:spcPts val="774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5" marL="2014560" indent="-250920">
              <a:spcBef>
                <a:spcPts val="774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6" marL="2014560" indent="-250920">
              <a:spcBef>
                <a:spcPts val="774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719400" y="6887880"/>
            <a:ext cx="294012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71040" y="6887880"/>
            <a:ext cx="597708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888240"/>
            <a:ext cx="587520" cy="419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GB" sz="15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B3D34E-A4D5-4BE0-A873-E06C7E239A47}" type="slidenum">
              <a:rPr b="1" lang="en-GB" sz="1500" spc="-1" strike="noStrike">
                <a:solidFill>
                  <a:srgbClr val="1f497d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9"/>
          <p:cNvSpPr/>
          <p:nvPr/>
        </p:nvSpPr>
        <p:spPr>
          <a:xfrm>
            <a:off x="-9360" y="5040360"/>
            <a:ext cx="10080360" cy="977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Rectangle 10"/>
          <p:cNvSpPr/>
          <p:nvPr/>
        </p:nvSpPr>
        <p:spPr>
          <a:xfrm>
            <a:off x="-9360" y="5140440"/>
            <a:ext cx="1612800" cy="78552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Rectangle 11"/>
          <p:cNvSpPr/>
          <p:nvPr/>
        </p:nvSpPr>
        <p:spPr>
          <a:xfrm>
            <a:off x="1703520" y="5130720"/>
            <a:ext cx="8377200" cy="7858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Rectangle 14"/>
          <p:cNvSpPr/>
          <p:nvPr/>
        </p:nvSpPr>
        <p:spPr>
          <a:xfrm>
            <a:off x="1595520" y="0"/>
            <a:ext cx="110880" cy="756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71400" y="252360"/>
            <a:ext cx="898848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9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74640" y="1763640"/>
            <a:ext cx="8989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52440" indent="-352440">
              <a:spcBef>
                <a:spcPts val="774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1" marL="704880" indent="-301680">
              <a:spcBef>
                <a:spcPts val="774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2" marL="1006560" indent="-250920">
              <a:spcBef>
                <a:spcPts val="774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3" marL="1511280" indent="-250920">
              <a:spcBef>
                <a:spcPts val="774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4" marL="2014560" indent="-250920">
              <a:spcBef>
                <a:spcPts val="774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5" marL="2014560" indent="-250920">
              <a:spcBef>
                <a:spcPts val="774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6" marL="2014560" indent="-250920">
              <a:spcBef>
                <a:spcPts val="774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887880" y="6887880"/>
            <a:ext cx="294012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5144760"/>
            <a:ext cx="1595520" cy="731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GB" sz="3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1905514-15A6-452A-B9B0-DA7C1210DFF7}" type="slidenum">
              <a:rPr b="1" lang="en-GB" sz="3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763280" y="6887880"/>
            <a:ext cx="504036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9"/>
          <p:cNvSpPr/>
          <p:nvPr/>
        </p:nvSpPr>
        <p:spPr>
          <a:xfrm>
            <a:off x="6721560" y="0"/>
            <a:ext cx="352440" cy="755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Rectangle 10"/>
          <p:cNvSpPr/>
          <p:nvPr/>
        </p:nvSpPr>
        <p:spPr>
          <a:xfrm>
            <a:off x="6770520" y="671400"/>
            <a:ext cx="252720" cy="68882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Rectangle 11"/>
          <p:cNvSpPr/>
          <p:nvPr/>
        </p:nvSpPr>
        <p:spPr>
          <a:xfrm>
            <a:off x="6770520" y="0"/>
            <a:ext cx="252720" cy="58752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71400" y="252360"/>
            <a:ext cx="898848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9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74640" y="1763640"/>
            <a:ext cx="8989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52440" indent="-352440">
              <a:spcBef>
                <a:spcPts val="774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1" marL="704880" indent="-301680">
              <a:spcBef>
                <a:spcPts val="774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2" marL="1006560" indent="-250920">
              <a:spcBef>
                <a:spcPts val="774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3" marL="1511280" indent="-250920">
              <a:spcBef>
                <a:spcPts val="774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4" marL="2014560" indent="-250920">
              <a:spcBef>
                <a:spcPts val="774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5" marL="2014560" indent="-250920">
              <a:spcBef>
                <a:spcPts val="774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6" marL="2014560" indent="-250920">
              <a:spcBef>
                <a:spcPts val="774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7224840" y="6887880"/>
            <a:ext cx="243504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504720" y="6887880"/>
            <a:ext cx="614376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6603840" y="158400"/>
            <a:ext cx="587520" cy="270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GB" sz="15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8634E4A-9C2D-4AD3-8702-FBB1D5B792F7}" type="slidenum">
              <a:rPr b="1" lang="en-GB" sz="15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6"/>
          <p:cNvSpPr/>
          <p:nvPr/>
        </p:nvSpPr>
        <p:spPr>
          <a:xfrm>
            <a:off x="0" y="1360440"/>
            <a:ext cx="10080720" cy="352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Rectangle 7"/>
          <p:cNvSpPr/>
          <p:nvPr/>
        </p:nvSpPr>
        <p:spPr>
          <a:xfrm>
            <a:off x="0" y="1411200"/>
            <a:ext cx="587520" cy="25236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Rectangle 8"/>
          <p:cNvSpPr/>
          <p:nvPr/>
        </p:nvSpPr>
        <p:spPr>
          <a:xfrm>
            <a:off x="650880" y="1411200"/>
            <a:ext cx="9429840" cy="25236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71400" y="252360"/>
            <a:ext cx="8988480" cy="1092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9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74640" y="1763640"/>
            <a:ext cx="8989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52440" indent="-352440">
              <a:spcBef>
                <a:spcPts val="774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1" marL="704880" indent="-301680">
              <a:spcBef>
                <a:spcPts val="774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2" marL="1006560" indent="-250920">
              <a:spcBef>
                <a:spcPts val="774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3" marL="1511280" indent="-250920">
              <a:spcBef>
                <a:spcPts val="774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4" marL="2014560" indent="-250920">
              <a:spcBef>
                <a:spcPts val="774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5" marL="2014560" indent="-250920">
              <a:spcBef>
                <a:spcPts val="774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6" marL="2014560" indent="-250920">
              <a:spcBef>
                <a:spcPts val="774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ftr" idx="26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sldNum" idx="27"/>
          </p:nvPr>
        </p:nvSpPr>
        <p:spPr>
          <a:xfrm>
            <a:off x="7227720" y="6886080"/>
            <a:ext cx="2345040" cy="520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GB" sz="15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4345F1-DA81-42AA-96F5-C1DE079BFFA9}" type="slidenum">
              <a:rPr b="1" lang="en-GB" sz="15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16080" y="369720"/>
            <a:ext cx="9448560" cy="1216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1f497d"/>
                </a:solidFill>
                <a:latin typeface="Tw Cen MT"/>
              </a:rPr>
              <a:t>Social Networking Policies &amp; Procedures</a:t>
            </a:r>
            <a:endParaRPr b="0" lang="en-US" sz="40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subTitle"/>
          </p:nvPr>
        </p:nvSpPr>
        <p:spPr>
          <a:xfrm>
            <a:off x="0" y="1814040"/>
            <a:ext cx="907272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spcBef>
                <a:spcPts val="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w Cen MT"/>
              </a:rPr>
              <a:t>Presented by: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indent="0" algn="ctr">
              <a:lnSpc>
                <a:spcPct val="94000"/>
              </a:lnSpc>
              <a:spcBef>
                <a:spcPts val="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indent="0" algn="ctr">
              <a:lnSpc>
                <a:spcPct val="94000"/>
              </a:lnSpc>
              <a:spcBef>
                <a:spcPts val="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w Cen MT"/>
              </a:rPr>
              <a:t>[YOUR NAME]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indent="0" algn="ctr">
              <a:lnSpc>
                <a:spcPct val="94000"/>
              </a:lnSpc>
              <a:spcBef>
                <a:spcPts val="7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w Cen MT"/>
              </a:rPr>
              <a:t>[COMPANY NAME]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900" spc="-1" strike="noStrike">
                <a:solidFill>
                  <a:srgbClr val="1f497d"/>
                </a:solidFill>
                <a:latin typeface="Tw Cen MT"/>
              </a:rPr>
              <a:t>Overview</a:t>
            </a:r>
            <a:endParaRPr b="0" lang="en-US" sz="49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52440" indent="-352440">
              <a:spcBef>
                <a:spcPts val="774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w Cen MT"/>
              </a:rPr>
              <a:t>Social networks are an important part of our lives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352440" indent="-352440">
              <a:spcBef>
                <a:spcPts val="774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w Cen MT"/>
              </a:rPr>
              <a:t>There is some benefit to social networking use at work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352440" indent="-352440">
              <a:spcBef>
                <a:spcPts val="774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w Cen MT"/>
              </a:rPr>
              <a:t>This presentation describes what is and is not acceptable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900" spc="-1" strike="noStrike">
                <a:solidFill>
                  <a:srgbClr val="1f497d"/>
                </a:solidFill>
                <a:latin typeface="Tw Cen MT"/>
              </a:rPr>
              <a:t>Social Network Use</a:t>
            </a:r>
            <a:endParaRPr b="0" lang="en-US" sz="49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503280" y="1768320"/>
            <a:ext cx="442584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52440" indent="-352440">
              <a:spcBef>
                <a:spcPts val="774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Tw Cen MT"/>
              </a:rPr>
              <a:t>Social Networks Allowed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52440" indent="-352440">
              <a:spcBef>
                <a:spcPts val="774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[NAME 1]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52440" indent="-352440">
              <a:spcBef>
                <a:spcPts val="774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[NAME 2]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52440" indent="-352440">
              <a:spcBef>
                <a:spcPts val="774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[…]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5149440" y="1767960"/>
            <a:ext cx="4614840" cy="4899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52440" indent="-352440">
              <a:spcBef>
                <a:spcPts val="774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Tw Cen MT"/>
              </a:rPr>
              <a:t>Social Networks Not Allowed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52440" indent="-352440">
              <a:spcBef>
                <a:spcPts val="774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[NAME 1]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52440" indent="-352440">
              <a:spcBef>
                <a:spcPts val="774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[NAME 2]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52440" indent="-352440">
              <a:spcBef>
                <a:spcPts val="774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[…]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900" spc="-1" strike="noStrike">
                <a:solidFill>
                  <a:srgbClr val="1f497d"/>
                </a:solidFill>
                <a:latin typeface="Tw Cen MT"/>
              </a:rPr>
              <a:t>Blogging Policy</a:t>
            </a:r>
            <a:endParaRPr b="0" lang="en-US" sz="49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52440" indent="-352440">
              <a:spcBef>
                <a:spcPts val="774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w Cen MT"/>
              </a:rPr>
              <a:t>Personal blogs must include a disclaimer that your opinions do not represent those of the company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352440" indent="-352440">
              <a:spcBef>
                <a:spcPts val="774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w Cen MT"/>
              </a:rPr>
              <a:t>Do not disclose confidential or proprietary information on your blog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352440" indent="-352440">
              <a:spcBef>
                <a:spcPts val="774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w Cen MT"/>
              </a:rPr>
              <a:t>Inform legal of any blogs to which you regularly contribute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900" spc="-1" strike="noStrike">
                <a:solidFill>
                  <a:srgbClr val="1f497d"/>
                </a:solidFill>
                <a:latin typeface="Tw Cen MT"/>
              </a:rPr>
              <a:t>Twitter Policy</a:t>
            </a:r>
            <a:endParaRPr b="0" lang="en-US" sz="49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52440" indent="-352440">
              <a:spcBef>
                <a:spcPts val="774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w Cen MT"/>
              </a:rPr>
              <a:t>You may twitter from work if the following conditions are met: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1" marL="704880" indent="-301680">
              <a:spcBef>
                <a:spcPts val="601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Roughly 20% of all tweets are industry and/or company related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704880" indent="-301680">
              <a:spcBef>
                <a:spcPts val="601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You must @company at least once per week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704880" indent="-301680">
              <a:spcBef>
                <a:spcPts val="601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Realize that twitter can become a time sink, so remember to stay productiv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900" spc="-1" strike="noStrike">
                <a:solidFill>
                  <a:srgbClr val="1f497d"/>
                </a:solidFill>
                <a:latin typeface="Tw Cen MT"/>
              </a:rPr>
              <a:t>Facebook Policy</a:t>
            </a:r>
            <a:endParaRPr b="0" lang="en-US" sz="49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52440" indent="-352440">
              <a:spcBef>
                <a:spcPts val="774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w Cen MT"/>
              </a:rPr>
              <a:t>If you use Facebook at work, you will be required to help promote the company using your Facebook account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352440" indent="-352440">
              <a:spcBef>
                <a:spcPts val="774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w Cen MT"/>
              </a:rPr>
              <a:t>When uploading pictures of company events, be sure to get approval from your manager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352440" indent="-352440">
              <a:spcBef>
                <a:spcPts val="774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w Cen MT"/>
              </a:rPr>
              <a:t>Do not disclose confidential or proprietary information through your Facebook account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900" spc="-1" strike="noStrike">
                <a:solidFill>
                  <a:srgbClr val="1f497d"/>
                </a:solidFill>
                <a:latin typeface="Tw Cen MT"/>
              </a:rPr>
              <a:t>General Guidelines</a:t>
            </a:r>
            <a:endParaRPr b="0" lang="en-US" sz="49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52440" indent="-352440">
              <a:spcBef>
                <a:spcPts val="774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w Cen MT"/>
              </a:rPr>
              <a:t>Remember to stay positive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352440" indent="-352440">
              <a:spcBef>
                <a:spcPts val="774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w Cen MT"/>
              </a:rPr>
              <a:t>Contribute value to online conversations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352440" indent="-352440">
              <a:spcBef>
                <a:spcPts val="774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w Cen MT"/>
              </a:rPr>
              <a:t>Be honest about your relationship to the company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352440" indent="-352440">
              <a:spcBef>
                <a:spcPts val="774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w Cen MT"/>
              </a:rPr>
              <a:t>Report any negative comments about the company to {insert name}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352440" indent="-352440">
              <a:spcBef>
                <a:spcPts val="774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w Cen MT"/>
              </a:rPr>
              <a:t>If you are unsure about whether or not a post, comment, or photo is acceptable, consult your manager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 </cp:lastModifiedBy>
  <dcterms:modified xsi:type="dcterms:W3CDTF">2009-07-29T02:53:00Z</dcterms:modified>
  <cp:revision>1</cp:revision>
  <dc:subject/>
  <dc:title>Social Networking Policies &amp; Procedures</dc:title>
</cp:coreProperties>
</file>