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770580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0"/>
            <a:ext cx="8384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5284800" y="640044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382240" cy="798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5284800" y="640044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tecting Your Passw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ersion 1.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illiam Loring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Computer Gu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amples of bad passw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ports teams or terms: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ouvlleSlg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umber sequence: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*12345*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tter string: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AAAA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ixed-case sequence: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BcdEFg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any name: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cme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Keyboard sequence: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QwERty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SdFg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Variations on a theme are still weak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iginal passwor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obJ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chRepubl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ig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dified passwor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Jones25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TechRepublic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g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g-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ways avoid this word or anything similar to 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etter passwor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iginal passwor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uvlleSlg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cme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QwER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Jones25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TechRepublic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ew passwor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*6v11E5Lg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C&amp;3i7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Y7#RQ^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890NEs2%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3CH&amp;R3pU8L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password is the key to your organization’s resourc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strong password can protect your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ersonal accou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ake strides to make strong passwords that are not obvious to someone familiar with you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member to change your password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n a regular bas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NarrowCast Group, LLC ●●● 111 West Washington St. Suite 300 ●●● Louisville, KY 40202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Times New Roman"/>
              </a:rPr>
              <a:t>Terms and Condition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Thank you for participating in IT Business Edge’s Knowledge Network, a professional community providing users with high-quality, useful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information, documents, tools, and templates (collectively "Works" and individually a "Work") to support your business’ success (collectively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ITBusinessEdge.com and the Knowledge Network shall be referred to as the "Service").  By using the Service, you agree to the following terms and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onditions of use and any changes or modifications made and published online from time to time without notice to you.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l downloaded Works are exclusively for the personal or professional use of the individual or company that downloads the Works.  No part of any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Work on the Knowledge Network may be reproduced, distributed, or resold in any form, by any means, without the express permission of the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opyright holder.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Works uploaded to the Knowledge Network must be uploaded by the copyright holder or a designated representative of the copyright holder.  By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uploading a Work to the Knowledge Network, you represent and warrant that you hold the copyright to the Work or have the express permission of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the copyright holder to upload the Work. 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By uploading a Work, you further agree to indemnify, defend, and hold harmless IT Business Edge and its subsidiaries and affiliates and their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spective directors, officers, shareholders, employees, agents, clients and contractors from and against any loss, claim, demand, cost and expense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(including reasonable legal fees) asserted by any third party due or arising from or in connection with the uploaded Work.  IT Business Edge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serves the right to assume the exclusive defense and control of any matter otherwise subject to indemnification by you, which shall not excuse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your indemnity obligations.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l persons who upload Works to the Knowledge Network grant to IT Business Edge an irrevocable, perpetual, world-wide, royalty-free, and non-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exclusive license to redistribute those Works through the Knowledge Network and other interactive channels.  Any user who creates a derivate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Work based on a Work on the Knowledge Network hereby assigns the copyright to the derivative Work to the original copyright holder.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30477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Documents or materials created explicitly for direct marketing campaigns should not be submitted the Knowledge Network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Any Work known to be violating this policy will be removed immediately.  Users that knowingly upload Works for which they do not own the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copyright are subject to removal from the Knowledge Network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t is the IT Business Edge’s policy to respond to notices of alleged copyright infringement that comply with applicable intellectual property law,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ncluding but not limited to the Digital Millennium Copyright Act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f your copyright is infringed:  If you believe that material posted on this site violates your copyright, or provides references or links to any other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websites which contain allegedly infringing materials, please immediately provide IT Business Edge’s Copyright Agent with a written statement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(“Notification of Copyright Infringement”)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T Business Edge reserves the right to evaluate complaints of abusive behavior, including profanity and threatening language, in all of our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nteractive user experiences, including the Knowledge Network.  Any content determined to be abusive may be removed, and users found to be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engaged in abusive conduct may have their subscription to the IT Business Edge, including but not limited to access to the ITBusinessEdge.com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website and the Knowledge Network, revoked.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DISCLAIMER OF WARRANTIES.  IT Business Edge will use its best efforts to moderate all uploaded Works for quality and technical veracity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before they are published for use by the Knowledge Network community.  Nevertheless, THE KNOWLEDGE NETWORK AND ASSOCIATED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CONTENT ARE PROVIDED ON AN "AS IS" AND "AS AVAILABLE" BASIS AND YOUR USE OF THE SERVICE IS AT YOUR SOLE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RISK. IT BUSINESS EDGE EXPRESSLY DISCLAIMS ALL WARRANTIES OF ANY KIND, EITHER EXPRESSED OR IMPLIED,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NCLUDING BUT NOT LIMITED TO, WARRANTIES OF MERCHANTABILITY, FITNESS FOR A PARTICULAR PURPOSE, NON-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NFRINGEMENT OF INTELLECTUAL PROPERTY OR OTHER VIOLATIONS OF RIGHTS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YOU UNDERSTAND AND AGREE THAT ANY OF THE MATERIAL AND/OR OTHER DATA DOWNLOADED OR OTHERWISE OBTAINED THROUGH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THE USE OF SERVICE IS DONE AT YOUR OWN DISCRETION AND RISK AND THAT YOU WILL BE SOLELY RESPONSIBLE FOR ANY DAMAGE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TO YOUR COMPUTER SYSTEM OR LOSS OF DATA THAT RESULTS FROM THE DOWNLOADING OF SUCH MATERIAL OR DATA. NO ADVICE OR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INFORMATION, WHETHER ORAL OR WRITTEN, OBTAINED BY YOU FROM IT BUSINESS EDGE OR THROUGH THE SERVICE SHALL CREATE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ANY WARRANTY NOT EXPRESSLY STATED IN THE TERMS OF SERVICE.LIMITATION OF LIABILITY.  YOU EXPRESSLY UNDERSTAND AND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AGREE THAT IN NO EVENT SHALL IT BUSINESS EDGE BE LIABLE FOR ANY DIRECT, INDIRECT, INCIDENTAL, PUNITIVE, SPECIAL,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CONSEQUENTIAL OR EXEMPLARY DAMAGES, INCLUDING BUT NOT LIMITED TO DAMAGES FOR LOSS OF PROFITS, GOODWILL, USE, DATA,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CONTENT OR OTHER INTANGIBLE LOSSES (EVEN IF IT BUSINESS EDGE HAVE BEEN ADVISED OF THE POSSIBILITY OF SUCH DAMAGES),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RESULTING FROM (I) THE USE OR INABILITY TO USE THE SERVICE (INCLUDING, BUT NOT LIMITED TO DELETION OR LOSS OF CONTENT,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DEFECTS OR DELAYS IN TRANSMISSION, OR ANY FAILURE OF A SERVER, OR THE INTERNET), (II) THE COST OF PROCUREMENT OF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SUBSTITUTE GOODS AND SERVICES RESULTING FROM THE COST OF ANY GOODS, DATA, INFORMATION OR SERVICES PURCHASED OR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OBTAINED OR MESSAGES RECEIVED OR TRANSACTIONS ENTERED INTO THROUGH OR FROM THE SERVICE, (III) UNAUTHORIZED ACCESS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TO OR ALTERATION OF YOUR TRANSMISSIONS OR DATA, (IV) STATEMENTS OR CONDUCT OF ANY THIRD PARTY ON THE SERVICE OR, (V)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ANY OTHER MATTER RELATING TO THE SERVICE. IF YOU ARE DISSATISFIED WITH THE SERVICE, THE MATERIALS AVAILABLE ON OR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THROUGH THE SERVICE, OR WITH ANY OF THE TERMS OF SERVICE, YOUR SOLE AND EXCLUSIVE REMEDY IS TO DISCONTINUE USE OF THE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SERVICE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Times New Roman"/>
              </a:rPr>
              <a:t>Again, thanks for subscribing to ITBusinessEdge.com and being part of the Knowledge Network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b5249"/>
                </a:solidFill>
                <a:latin typeface="Times New Roman"/>
              </a:rPr>
              <a:t>Copyright © 2003-2008 NarrowCast Group, LLC. All rights reserved.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5b5249"/>
                </a:solidFill>
                <a:latin typeface="Times New Roman"/>
              </a:rPr>
              <a:t>http://www.itbusinessedge.com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tecting Your Passwor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y passwords are importa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y are the entry point to IT and other enterprise resour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y provide access to the VPN, e-mail servers, and the networ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isused or stolen passwords can give intruders access to your personal inf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nal password theft is eas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cial engineering” is one of the easiest  ways for intruders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o compromise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etworks and other organizational system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thers can hear you give a password to someone you trust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omeone looking over your shoulder can discover a passwor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on’t keep a copy of your password in a desk drawer, on a monitor, or under a keyboar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tect your passwor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our password is yours alone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on’t share it with anyone, including supervisors, personal assistants, or IT personne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ever write down your password. You wouldn’t write your PIN number for your ATM card, would you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ay your password alou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-mail your password to a co-work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ffer anyone hints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bout what your password might b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reate a strong passwor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eak passwords are common becaus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y are easy for users to rememb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y include personal information about the us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y consist of known words that can be found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 many hacker password dictionar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y contain number or letter sequences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 letter-to-number substitutions, such as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 for 3 or O for zer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reate a strong passwor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rong password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re six characters or longer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n’t contain any part of a user’s full name or usernam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on’t use any term that could easily be guessed by someone who is familiar with you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hould not include any personal information, e.g., the name of a spouse or a street addres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reate a strong passwor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rong passwords, cont.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hould not contain personal identification numbers, including those on a license plate, your telephone number, birth date, or any part of your Social Security numbe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ntain characters from three of the four classes of character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our character classes are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249"/>
                </a:solidFill>
                <a:latin typeface="Times New Roman"/>
              </a:rPr>
              <a:t>English uppercase letters (A, B, C). </a:t>
            </a: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249"/>
                </a:solidFill>
                <a:latin typeface="Times New Roman"/>
              </a:rPr>
              <a:t>English lowercase letters (a, b, c). </a:t>
            </a: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249"/>
                </a:solidFill>
                <a:latin typeface="Times New Roman"/>
              </a:rPr>
              <a:t>Arabic numerals (1, 2, 3). </a:t>
            </a: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b5249"/>
                </a:solidFill>
                <a:latin typeface="Times New Roman"/>
              </a:rPr>
              <a:t>Special characters ( !, *, $, or other punctuation symbols).</a:t>
            </a: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7:34:46Z</dcterms:created>
  <dc:creator/>
  <dc:description/>
  <dc:language>en-US</dc:language>
  <cp:lastModifiedBy>Patrick Avery</cp:lastModifiedBy>
  <dcterms:modified xsi:type="dcterms:W3CDTF">2008-10-31T19:35:18Z</dcterms:modified>
  <cp:revision>33</cp:revision>
  <dc:subject/>
  <dc:title>Protecting Your Password</dc:title>
</cp:coreProperties>
</file>