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756-EF22-4F6E-884A-F4FB0FB8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858-F923-447B-9AF0-DFF8410B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DE8-153E-4C29-AD2C-F76632B8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5C8-F33A-473C-AEB5-5DB915F7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591-E872-4A13-844F-AE934391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D21-014A-495D-957B-16F4981C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4F5-B9F5-4C07-AC6B-51A1A70C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438-5DAD-48FD-8311-007EE002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33C-3FE6-4C59-8640-A28C4FAA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7D1-2ACB-4CD2-9CD4-B8AE721E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E12-C434-4C12-AF9A-1AB4CF70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C0D-3C51-44FC-A699-A210468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0D8F-B7D8-4323-A38C-E1C2E814E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666880" y="6324480"/>
            <a:ext cx="381024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ormalizing a Project Schedul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earn how to match resources to tasks within the framework of your schedule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or Critical Task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 the project schedule to determine if the resources you assigned are actually available within the schedule window of each task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fter individual assignments are finalized and reviewed by the project team, adjust the schedule to accommodate any other necessary chang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schedule must then be reviewed and approved by senior management as part of the project pla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or Non-Critical Task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hedule all non-critical tasks at the earliest date possible, thus providing a way to free up resources earlier for other projects or later critical task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hedule all non-critical tasks as late as possible without causing critical tasks to slip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hedule a subset of non-critical task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 milestones get met, complete the rest of the schedule, thus giving yourself flexibility and a way to assign resources to critical task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ules for Assigning Resourc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ke sure you know the specific availability of all resourc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sign the best-suited available people to each task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resources efficiently to ensure the smallest gaps in working schedul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do the schedule until it balanc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one unique resource commands first place in your project, you must make your schedule conform to its availability. No way around that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0:31:58Z</dcterms:created>
  <dc:creator/>
  <dc:description/>
  <dc:language>en-US</dc:language>
  <cp:lastModifiedBy>Paula Weber</cp:lastModifiedBy>
  <dcterms:modified xsi:type="dcterms:W3CDTF">2003-09-25T20:41:05Z</dcterms:modified>
  <cp:revision>4</cp:revision>
  <dc:subject/>
  <dc:title>Normalizing a Project Schedule</dc:title>
</cp:coreProperties>
</file>