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D51D7-85AC-4086-B958-E66E001B7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86EF2-0A2D-4961-AD0E-DE5DC179A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AEEFF-70A7-471F-B5F9-DAEFE760C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654C0-6925-4F91-A209-B930DDA35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29346-2643-4387-8283-AEB8018B9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45A25-CC8F-476D-AFA6-D55D20B00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E71F7-DF4B-40EF-B07A-380C0792E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72E72-5FFC-4D48-885E-6033E45FD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ECBA2-F7EE-4E1D-9A58-166CE850E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5EF87-8105-48A8-AB40-841BF6262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1E50E-C058-4812-9F8A-A19ABAC97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ABF40-18D9-4883-8BDD-4D7D9F093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3D243-2EB1-47B5-AF53-ADE18E6192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2666880" y="6324480"/>
            <a:ext cx="3810240" cy="381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Getting Real About Project Management Software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Sure, project management software is handy. You probably couldn't do your job without it. But even the best PM software does not replace a project manager.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Project Software Can’t Do Everything!-1</a:t>
            </a: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Project management software can’t gather data.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You decide how much and which information you need to manage the project.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Project status data will still have to be gathered by you and your project team.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A computer program can help compute and display the information you gather only after you’ve entered and gathered it.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Project Software Can’t Do Everything!-2</a:t>
            </a: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Project management software can’t make decisions.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omputer programs make it easier to explore alternatives, but you and your project team will ultimately have to choose between alternatives and take responsibility for your decisions.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Project Software Can’t Do Everything!-2</a:t>
            </a: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Project management software can’t solve problems regarding subjective judgments.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Human intuition is the most important ingredient in project management, particularly if you have to deal with people.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oftware is programmed and is not intuitive.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It reports back only what you put into it.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At the end of the day, you’ll still have to manage conflicts, solve problems and use your own judgment.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Project Software Can’t Do Everything!-3</a:t>
            </a: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Project management software can’t find errors in your input.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If you put bad, biased, incomplete or erroneous data into your project management program, you’ll get back bad, biased, incomplete or erroneous project reports.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Don’t blame the software for human error.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heck reports and entries several times before they are distributed.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Project Software Can’t Do Everything!-4</a:t>
            </a: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Project management software will not communicate for you.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There is more to reporting on a project than sending out a report. 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You need to communicate with people face-to-face.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You need to build interfaces between people and departments.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You need to listen to what’s going on around you.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Project Software Can’t Do Everything!-5</a:t>
            </a: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Project management software won’t save money by reducing the need for project personnel.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utomation can make you more efficient, but project management software will not significantly reduce the need for project management people.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In a large projectized organization, you’ll probably even end up adding staff to help with computerized project management functions and support.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5T07:44:42Z</dcterms:created>
  <dc:creator/>
  <dc:description/>
  <dc:language>en-US</dc:language>
  <cp:lastModifiedBy>Paula Weber</cp:lastModifiedBy>
  <dcterms:modified xsi:type="dcterms:W3CDTF">2003-09-25T22:18:07Z</dcterms:modified>
  <cp:revision>10</cp:revision>
  <dc:subject/>
  <dc:title>Getting Real About Project Management Software</dc:title>
</cp:coreProperties>
</file>